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0.xml" ContentType="application/vnd.openxmlformats-officedocument.presentationml.comments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<Relationship Id="rId37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6-08-26T23:09:56.415000000" idx="1">
    <p:pos x="3010" y="1037"/>
    <p:text/>
  </p:cm>
</p:cmLst>
</file>

<file path=ppt/comments/comment13.xml><?xml version="1.0" encoding="utf-8"?>
<p:cmLst xmlns:p="http://schemas.openxmlformats.org/presentationml/2006/main">
  <p:cm authorId="0" dt="2016-08-26T23:10:01.543000000" idx="2">
    <p:pos x="4039" y="69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81C-6CBF-44C3-B8A3-7F551D65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00A-C6F9-4D3D-9BF6-5C7E9E0B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78657-C4EF-4562-969E-426C06D9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C95D6-C4EE-4308-B27F-005B4A01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73EB0-BFEA-4CE4-8608-A99276B6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30E92-B1AA-469B-8D88-C7143379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D9217-D895-40A8-973C-54850C49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9DA55-D077-44F6-9011-052390AB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FAAD2-D0A0-4A52-A1E0-A51ABD3D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FB35D-983E-4A01-BF31-413A9774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C9272-8EB8-4A28-9D93-2466B86D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8ABDD-4B58-4D91-A239-EDEBC43A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341-C76C-43D5-A3FE-F76E5DFF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8234F-7E14-4E7D-8CE7-2BA3E489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12E47-C1BC-460D-A415-CBED3DCA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C3494-9FE2-4467-8D69-DD2B1974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E0F16-938D-4D24-9A1F-FFAFECD6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34859-B21F-45F0-B4E3-013849FA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FF4F8-6D4A-4BFE-8F50-9D284549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2A7A6-E3A3-4AB0-80CE-978C5690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48753-753C-4DA1-933A-60E63BE4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0E2CC-623B-4363-80FB-3317D175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AB766-8780-496E-9C7E-30E5E1A8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8B6-7FFA-4948-91A1-87364E85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F8B86-B903-41D5-821F-7A08859B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1767D-2F9B-42A1-83C7-3359B413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39EE9-42A6-41FD-A71E-A4C56EC1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1BEE1-65FE-493B-A29C-F0C124DE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7390F-0EDC-449A-8DA6-C983E41E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6597D-114F-44DF-87D1-06B87B34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22029-0F1C-4254-A7DD-087030FB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3CD00-B36D-47E2-82B3-689C9DD3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B73AF-2A6E-4C6D-B7F6-A29AB2FD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28BF3-6E4A-4B09-8F4A-3353A52B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DFB8-EC67-4538-B09F-5552E727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5DA1A-E684-4F66-B0BB-863ECA79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0FDB6-364F-43C9-90F9-339629BC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F32C6-AF53-47E0-AD78-CEE2D8F5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40E8A-5CB9-46A2-9798-A087C9D8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13CCF-CCDD-4106-9F48-C911283B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24051-7A04-4411-8100-4EC2C72B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66B9B-721A-4077-BCB8-83AA8F15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5AC5C-EDB0-46A8-9F7F-10E5EE97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9456C-13A0-4553-ADB8-63ACE156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3A158-E9DC-4E6F-92EB-1569F57D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D62D-C8E9-4325-B0AF-08B8CE1F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08D9F-BE28-4852-9691-C83BC15B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12F8F-DBC5-43AD-A5C7-38625DC2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AC262-04B4-40E3-A7B8-6498A4EF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CA867-1DA2-4B10-98ED-89B51D54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EDC78-9B71-4D76-B4BA-5A11FFF9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C384-8A16-4B66-BD14-932802A5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7F16-49C3-49EA-BC3D-4340B6E5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2A03-B4B6-40F3-B5AC-B55114E8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D848-210F-419A-9C63-EE328DDB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CF93-0DC8-4A2B-B646-1CD43E81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6D6-5F04-4B08-BB35-F6C366E8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369C-A830-4499-AD59-05159558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3A18-98F7-436A-9992-2C812185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A335-F04D-4855-9732-054ED2A5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FAAD-17C0-491F-84D5-7AC3895B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233C-07A1-4238-8A6B-24500F25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3CB17-6A1B-4D18-AC74-C20381A4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3C0C-6040-42C6-B019-B5251F65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9647-C1E5-4FA7-BE24-FF18EF39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1777-836D-4F53-80D2-5CD07383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7ECA-5E8B-408C-B20E-255AB474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7FE-839B-4DFC-80C7-7B4309EC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CED81-DB7F-4E74-8B4E-3A82B88A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69E4E-1639-4F4C-A8A6-83D500F4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AE2D-3865-4136-A61A-14488D5E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7095-36BF-4914-BEF1-1111BC02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8092F-59BB-4D57-858B-2F81E590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788BA-6D4F-460A-9BEB-232A1B37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ACE2-A7DC-464E-ADAE-D2AA4D2A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BE47E-6E7D-410D-8BED-29695EA0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6BB6-4D57-4968-A230-FFE0B324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7CB25-6D70-408B-B2ED-73F4C9B1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199-1D19-4EF8-8EF1-157F7221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0DA5A-263C-4E66-91BB-782065BA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EBCA6-F2E4-4948-AFC2-91D70893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01DBD-55C4-4B79-A807-DE93BF55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A4F22-9012-4A94-908A-98831A63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019E3-1D04-4870-8C60-782030C1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99B1C-71A7-45D0-88CE-D6AF7CCD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7C1A-3016-47FB-A643-F113361B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7953-CDA1-4A92-A2A7-BBD4BB1A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B7217-39A0-463D-95D2-ECE87DCD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DD999-B8D8-49F9-8E08-2246C7E1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472-91CA-4511-A039-7744CC5A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91547-E822-490B-8122-91D5DC0A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54992-C4C7-4865-907E-D86805E2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87263-DC80-49E4-83C7-1004FE43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0AFC5-7A98-4862-ABE4-B01CFE3E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D4A8F-BD27-400E-B110-543E3AA4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A48A4-C2C7-4051-89C6-41EEF16B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67235-A5B9-405A-BF06-3F1D1AA5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DE12C-95B1-40F2-A05C-E3C05CB0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F6F01-DA80-48C0-AC92-B36A9FBE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D0BC2-0BD0-4024-912F-09571E09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8D7-E6A2-4DED-8DA4-EABEB58C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C9A37-013E-4628-A636-99F2CF66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65661-46BC-456E-8507-FB68DD3F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AB5D8-2E4F-466C-B26F-C1235890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E918C-C65F-4387-9DE4-EDA37D32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9E984-2DD2-4CA0-8FC7-F659F849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CE2EA-8003-4A89-8191-B96DFA22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28EA3-F09A-45B2-BC85-95B95EDA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F94DF-D124-4620-AC44-2749F4D3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16B62-E1EF-4C56-856C-E4A8EAC2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3645A-A2C3-4C60-BFC5-A852F32A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A40-6BBE-458C-B82B-9E6F3E57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35D75-4E3C-49AB-9AB7-61EFEB52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04B07-7D80-4808-9DC8-AC12C039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75065-3021-4055-91BD-6519CF76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F5E93-5658-451F-A024-B434D412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683FA-8DE1-417E-98E4-3ED349A1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DAB22-EA37-4A65-A57C-2AB3D47D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FB931-A084-4730-9BF0-1DA5E1CC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AEF45-09BC-4530-8F1B-8A48CD97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F0502-9C42-4CE1-9926-42D3ADE7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7A0D9-975D-49CF-83FB-2F68F0ED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D85-121D-41C7-9909-02C43004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77FE6-93BF-45A4-BC75-16197B23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48DB8-E698-4FBE-AD8F-94B0A596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60EAD-8DB0-49A6-967C-595BFF5E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994C6-F737-4C4A-859C-FB8D92C5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C28F4-CE98-43B3-9EC7-403C3A0E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FA59B-E9C9-450B-BD08-4493DDDD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D9334-AC11-49E5-B52D-65079FEB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E9BA1-F789-4B59-A6E2-55F961BF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C9E06-F567-4CF4-98C6-25A03D8F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A57AD-6635-448D-98F9-6B538EBC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6F9-B8AB-47CB-869F-32B8CB36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309EC-E831-44F3-8765-520A9BCB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21028-61DB-42C1-84B3-6FDBE296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794BC-B572-43A1-BC9C-DF2D9EFA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6C0E6-4FC2-439B-9B90-8A071B0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6BE9F-E7C1-41BE-A7EE-5DDDDF48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A8536-E688-49EC-B008-1BF0DF3A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9CC0F-6409-4F14-9647-0F4C57C0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FDC4E-AFB2-4F05-9672-22056870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E6239-866E-4688-B231-37C9225C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8008E-67A5-420C-9F6B-15425CF6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788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789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789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789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789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789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789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6171-1A4B-491A-BB44-36955B293A5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00BC-EFC5-4C76-911D-5312526AE87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163A-F421-46CB-BB3B-5337BE22EFA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8EDF-A959-492E-8125-B52C8895470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891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891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891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891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891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891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891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310B-20C6-4AC2-BDF5-8FE39CA8E1B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4219-0A00-470E-B13A-67AEF1ABD92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2E82-7B0F-4678-BFC2-A4C31173ECD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3CBF-FF66-43CF-AE19-93CE7E92E95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67C4-FE2B-4967-9450-4411CFB653B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2E5B-E6B3-43BE-BA14-C1091C7E0CE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2437-B5A0-4A25-8CEA-D053C185529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2DA9-01F1-426A-B759-9D3E6CC5A9F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1476360" y="134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11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大还是小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508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10" name="Picture 2" descr="http://www.taopic.com/uploads/allimg/110310/341-11031012591039.jpg"/>
          <p:cNvPicPr/>
          <p:nvPr/>
        </p:nvPicPr>
        <p:blipFill>
          <a:blip r:embed="rId1"/>
          <a:stretch/>
        </p:blipFill>
        <p:spPr>
          <a:xfrm>
            <a:off x="1547640" y="2349360"/>
            <a:ext cx="6072480" cy="34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己系鞋带的时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5" descr="9cc6bd964c8e92af"/>
          <p:cNvPicPr/>
          <p:nvPr/>
        </p:nvPicPr>
        <p:blipFill>
          <a:blip r:embed="rId1"/>
          <a:stretch/>
        </p:blipFill>
        <p:spPr>
          <a:xfrm>
            <a:off x="2627280" y="2349360"/>
            <a:ext cx="4248360" cy="2951280"/>
          </a:xfrm>
          <a:prstGeom prst="rect">
            <a:avLst/>
          </a:prstGeom>
          <a:ln w="0">
            <a:noFill/>
          </a:ln>
        </p:spPr>
      </p:pic>
      <p:sp>
        <p:nvSpPr>
          <p:cNvPr id="576" name="矩形 23556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照顾小妹妹的时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5" descr="7d969522b1cea0df"/>
          <p:cNvPicPr/>
          <p:nvPr/>
        </p:nvPicPr>
        <p:blipFill>
          <a:blip r:embed="rId1"/>
          <a:stretch/>
        </p:blipFill>
        <p:spPr>
          <a:xfrm>
            <a:off x="1692360" y="2852640"/>
            <a:ext cx="2409840" cy="1809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7" descr="f9a6ca9611273e90"/>
          <p:cNvPicPr/>
          <p:nvPr/>
        </p:nvPicPr>
        <p:blipFill>
          <a:blip r:embed="rId2"/>
          <a:stretch/>
        </p:blipFill>
        <p:spPr>
          <a:xfrm>
            <a:off x="4500720" y="2276640"/>
            <a:ext cx="296208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够不着按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5" descr="c163b4b1dd9e569b"/>
          <p:cNvPicPr/>
          <p:nvPr/>
        </p:nvPicPr>
        <p:blipFill>
          <a:blip r:embed="rId1"/>
          <a:stretch/>
        </p:blipFill>
        <p:spPr>
          <a:xfrm>
            <a:off x="2411280" y="2565360"/>
            <a:ext cx="4464360" cy="3167280"/>
          </a:xfrm>
          <a:prstGeom prst="rect">
            <a:avLst/>
          </a:prstGeom>
          <a:ln w="0">
            <a:noFill/>
          </a:ln>
        </p:spPr>
      </p:pic>
      <p:sp>
        <p:nvSpPr>
          <p:cNvPr id="583" name="矩形 25603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听到雷声喊妈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5" descr="865ba412620f3c22"/>
          <p:cNvPicPr/>
          <p:nvPr/>
        </p:nvPicPr>
        <p:blipFill>
          <a:blip r:embed="rId1"/>
          <a:stretch/>
        </p:blipFill>
        <p:spPr>
          <a:xfrm>
            <a:off x="1763640" y="2565360"/>
            <a:ext cx="5329440" cy="2916360"/>
          </a:xfrm>
          <a:prstGeom prst="rect">
            <a:avLst/>
          </a:prstGeom>
          <a:ln w="0">
            <a:noFill/>
          </a:ln>
        </p:spPr>
      </p:pic>
      <p:sp>
        <p:nvSpPr>
          <p:cNvPr id="586" name="矩形 26627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玩具小熊陪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c68db0215bdd7b87"/>
          <p:cNvPicPr/>
          <p:nvPr/>
        </p:nvPicPr>
        <p:blipFill>
          <a:blip r:embed="rId1"/>
          <a:stretch/>
        </p:blipFill>
        <p:spPr>
          <a:xfrm>
            <a:off x="3132000" y="3213000"/>
            <a:ext cx="221940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WordArt 4"/>
          <p:cNvSpPr txBox="1"/>
          <p:nvPr/>
        </p:nvSpPr>
        <p:spPr>
          <a:xfrm>
            <a:off x="1979640" y="2565360"/>
            <a:ext cx="374472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听老师范读课文</a:t>
            </a:r>
            <a:endParaRPr b="0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59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95" name="Picture 2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96" name="TextBox 2"/>
          <p:cNvSpPr/>
          <p:nvPr/>
        </p:nvSpPr>
        <p:spPr>
          <a:xfrm>
            <a:off x="571680" y="3114720"/>
            <a:ext cx="79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大还是小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左大括号 3"/>
          <p:cNvSpPr/>
          <p:nvPr/>
        </p:nvSpPr>
        <p:spPr>
          <a:xfrm>
            <a:off x="1549440" y="2565360"/>
            <a:ext cx="358560" cy="33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3384720"/>
              <a:gd name="textAreaBottom" fmla="*/ 33757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TextBox 4"/>
          <p:cNvSpPr/>
          <p:nvPr/>
        </p:nvSpPr>
        <p:spPr>
          <a:xfrm>
            <a:off x="1908000" y="256860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自己系鞋带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TextBox 10"/>
          <p:cNvSpPr/>
          <p:nvPr/>
        </p:nvSpPr>
        <p:spPr>
          <a:xfrm>
            <a:off x="1906560" y="330192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照顾小妹妹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TextBox 12"/>
          <p:cNvSpPr/>
          <p:nvPr/>
        </p:nvSpPr>
        <p:spPr>
          <a:xfrm>
            <a:off x="1906560" y="400680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够不着按钮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Box 16"/>
          <p:cNvSpPr/>
          <p:nvPr/>
        </p:nvSpPr>
        <p:spPr>
          <a:xfrm>
            <a:off x="1893960" y="4687920"/>
            <a:ext cx="42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听到雷声喊妈妈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TextBox 13"/>
          <p:cNvSpPr/>
          <p:nvPr/>
        </p:nvSpPr>
        <p:spPr>
          <a:xfrm>
            <a:off x="1906560" y="5364000"/>
            <a:ext cx="42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玩具小熊陪着睡觉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05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07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6"/>
          <p:cNvSpPr/>
          <p:nvPr/>
        </p:nvSpPr>
        <p:spPr>
          <a:xfrm>
            <a:off x="1260360" y="242424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996633"/>
                </a:solidFill>
                <a:uFillTx/>
                <a:latin typeface="华文楷体"/>
                <a:ea typeface="华文楷体"/>
              </a:rPr>
              <a:t>　　写了很多自己能做到和不能做到的事情，期待自己快快长大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全文有六个自然段，写了自己能做到和不能做到的事情，很有层次，我们也要学习这样写作。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1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15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3"/>
          <p:cNvSpPr/>
          <p:nvPr/>
        </p:nvSpPr>
        <p:spPr>
          <a:xfrm>
            <a:off x="2908080" y="1147680"/>
            <a:ext cx="3594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我想快快长大（原创儿童歌曲歌词）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作者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 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：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 </a:t>
            </a: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张子龙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爸爸妈妈一个家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爷爷奶奶一个家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爸爸妈妈住城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爷爷奶奶住乡下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 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我和爷爷奶奶住惯了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走到哪里都割舍不下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我爱吃奶奶熬的小米粥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还爱吃爷爷烤的热地瓜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618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20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2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6"/>
          <p:cNvSpPr/>
          <p:nvPr/>
        </p:nvSpPr>
        <p:spPr>
          <a:xfrm>
            <a:off x="46836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3399"/>
                </a:solidFill>
                <a:uFillTx/>
                <a:latin typeface="Calibri"/>
                <a:ea typeface="幼圆"/>
              </a:rPr>
              <a:t>怎样系鞋带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4" name="Picture 5" descr="0a52e3f47a8228bf62ed72e6"/>
          <p:cNvPicPr/>
          <p:nvPr/>
        </p:nvPicPr>
        <p:blipFill>
          <a:blip r:embed="rId2"/>
          <a:stretch/>
        </p:blipFill>
        <p:spPr>
          <a:xfrm>
            <a:off x="498600" y="3141720"/>
            <a:ext cx="3255840" cy="25732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0a52e3f47a8228bf62ed72e6"/>
          <p:cNvPicPr/>
          <p:nvPr/>
        </p:nvPicPr>
        <p:blipFill>
          <a:blip r:embed="rId3"/>
          <a:stretch/>
        </p:blipFill>
        <p:spPr>
          <a:xfrm>
            <a:off x="4416480" y="3279600"/>
            <a:ext cx="364968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6"/>
          <p:cNvSpPr/>
          <p:nvPr/>
        </p:nvSpPr>
        <p:spPr>
          <a:xfrm>
            <a:off x="971640" y="2227320"/>
            <a:ext cx="74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　　你觉得自己大还是小呢？让我们都不挑食锻炼身体团结同学，做一个快快长大的人吧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24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26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0" y="2413440"/>
            <a:ext cx="93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              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3211920" y="292428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把课文朗读给你的同桌听   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323640" y="1484280"/>
            <a:ext cx="2073600" cy="6480"/>
            <a:chOff x="323640" y="1484280"/>
            <a:chExt cx="2073600" cy="6480"/>
          </a:xfrm>
        </p:grpSpPr>
        <p:sp>
          <p:nvSpPr>
            <p:cNvPr id="630" name="直线连接符 21"/>
            <p:cNvSpPr/>
            <p:nvPr/>
          </p:nvSpPr>
          <p:spPr>
            <a:xfrm flipV="1">
              <a:off x="32400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 rot="10800000">
              <a:off x="32364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32" name="Picture 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7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518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519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0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521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23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uFillTx/>
                <a:latin typeface="宋体"/>
              </a:rPr>
              <a:t>认一认</a:t>
            </a:r>
            <a:endParaRPr b="0" i="1" lang="en-US" sz="2400" spc="-1" strike="noStrike" u="sng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时候   觉得    已经    很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穿衣服   照镜子  玩具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快点    自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7410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4"/>
          <p:cNvSpPr txBox="1"/>
          <p:nvPr/>
        </p:nvSpPr>
        <p:spPr>
          <a:xfrm>
            <a:off x="1403280" y="2919240"/>
            <a:ext cx="5472360" cy="144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uFillTx/>
                <a:latin typeface="楷体_GB2312"/>
              </a:rPr>
              <a:t>写一写</a:t>
            </a:r>
            <a:endParaRPr b="1" i="1" lang="en-US" sz="2400" spc="1" strike="noStrike" u="sng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uFillTx/>
              <a:latin typeface="楷体_GB2312"/>
              <a:ea typeface="楷体_GB2312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28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29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31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32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34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35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36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276720" y="765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z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ì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Text Box 17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自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41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42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43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44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45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47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48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49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Text Box 16"/>
          <p:cNvSpPr/>
          <p:nvPr/>
        </p:nvSpPr>
        <p:spPr>
          <a:xfrm>
            <a:off x="3276720" y="62064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j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ǐ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己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矩形 20490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55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56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58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59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60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61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2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63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chuáng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床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568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5"/>
          <p:cNvSpPr/>
          <p:nvPr/>
        </p:nvSpPr>
        <p:spPr>
          <a:xfrm>
            <a:off x="324000" y="1413000"/>
            <a:ext cx="882000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0" i="1" lang="zh-CN" sz="48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认真自读课文，用心          思考下面问题：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1</a:t>
            </a: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、你觉得自己大还是小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2</a:t>
            </a:r>
            <a:r>
              <a:rPr b="0" i="1" lang="zh-CN" sz="3600" spc="-1" strike="noStrike" u="sng">
                <a:solidFill>
                  <a:srgbClr val="d9d8ec"/>
                </a:solidFill>
                <a:uFillTx/>
                <a:latin typeface="Times New Roman"/>
                <a:ea typeface="宋体"/>
              </a:rPr>
              <a:t>、什么情况下小主人公觉得自己大，什么情况下觉得自己小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矩形 22532"/>
          <p:cNvSpPr txBox="1"/>
          <p:nvPr/>
        </p:nvSpPr>
        <p:spPr>
          <a:xfrm>
            <a:off x="759636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宋体"/>
              </a:rPr>
              <a:t>www.xkb1.com</a:t>
            </a:r>
            <a:endParaRPr b="0" i="1" lang="en-US" sz="18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>www.xkb1.com</dc:creator>
  <dc:description>www.xkb1.com</dc:description>
  <cp:keywords>www.xkb1.com</cp:keywords>
  <dc:language>en-US</dc:language>
  <cp:lastModifiedBy>万润仪器贸易公司</cp:lastModifiedBy>
  <dcterms:modified xsi:type="dcterms:W3CDTF">2020-08-24T01:54:57Z</dcterms:modified>
  <cp:revision>249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